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EAA-036A-46C8-8474-768EE7AC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59A-982E-4EE9-AF9F-D4744B06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9751A-54F5-4841-A971-7E9C6DAF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F4384-8645-488F-9655-5F25A681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754F5-3C5F-4D96-8A07-458AC8C4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6596A-3296-44DA-8875-D9152363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4B798-CCD7-4336-B1B4-8833F270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2FC21-ED66-46D1-9179-77E09509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B233B-B87E-44D6-B1AE-DBE26209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05583-FB28-4512-A569-64BBA956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5A7E7-6673-47E8-B2B7-3B67A159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1991A-4EB4-412F-BC13-33FF62DB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340-9614-4AED-8E16-485C6791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B5C4B-EE34-4F8A-84D3-994A2796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F1F73-BEC2-42D8-BE7F-26ABCC01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634FB-9B80-4C14-9B6C-B3BF17D5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3CEEB-9CE7-4028-9006-B8ED0651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18C65-EDB1-4E9C-8454-01ED2C62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4C4E5-55B9-491D-ABCB-76982110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A5E27-450D-4A44-B57D-43E0F185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786D4-3027-4401-BF17-601D071C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1B4CA-2449-46A7-B6C7-086EE27C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43F41-FE04-46F0-A1F5-4B947E23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5C9-45B7-4372-A760-F5442E47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1E3D4-14CA-4FF5-AA14-F4ED637D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14E80-BB1B-4D90-89FF-E020866A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15419-2A85-48A0-8C92-48C520D2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8C1E5-F3A5-45E5-971D-2A99DF6F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0B6F4-A136-4BCE-A1D3-8DE1DD52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0B07D-5FD4-436D-B1C9-E24F0EE2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0EC65-7368-41BD-9AA4-CE2B05E9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812D4-4C69-4DBF-82B8-21BC8C82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2CFC3-670D-4AB5-ABE9-C43F5DCC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6DD67-3235-484C-A8EB-5CBF7A1F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4E0A-675C-4247-BF1E-37FCD316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F37F8-3553-4C4B-8066-3EFBF855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C943D-E4BC-4C87-86BA-9ABF4978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71200-5604-4689-9115-534A1925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AA5D6-3B36-4571-8FA8-8EF089EB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BF695-ECCD-4096-A396-89D3CEB5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D4B21-9B1B-4195-B4A8-ADE93DD9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44A0A-B1C4-4BC6-A50D-C379AA0C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A7200-2B86-46EF-9F37-5019DB3E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9BEEB-5324-4F6D-A834-D06A2DA3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5C644-A0EC-489A-9B12-6A69F17A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FD26-4079-40DA-91A7-8CBD4AB9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AE86A-24A1-4FFA-BF5B-E9C335C8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75345-C16D-4F9F-A0F5-388858CB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21409-53D2-4FFE-854D-9CCFE67B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63E92-C440-4ED6-8A58-8FE185DD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8B48F-CE5A-48EA-B7B8-8DAC57D2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DFB0A-0BF2-4F6B-89FF-03A36BDC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0BE7F-EF66-4E58-A270-97C24698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4C7E3-F326-4F98-8206-A43A5AD4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82D13-2467-477F-9707-B3596460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398E23-1802-496A-B20B-6FB6EED2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7D35-B579-4E7B-87BC-55C8E174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CB57E-B135-45F6-9821-252A2FCF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2CA44-4594-4190-90D2-495CEF41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B9172-1919-4D82-8EB2-FFDBD6EF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77158-F454-46D4-B286-CD9B1E33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57F13-4073-45DD-A2A9-4222E936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F32B6-CED0-40D3-B895-7B1262A7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EE796-C92E-4B5C-A40F-24942CED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F9D40-02A5-4B0D-9644-BF2A7ABB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8CC27-7C22-417E-9EDC-974207A7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0F4E38-AFFA-4443-809A-FD065A03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59B6-53D6-4106-B55B-80962382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5ADAB-E2A1-4DEE-A875-6F971226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E468DB-A1F0-4749-AFFA-3C852673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6D501-9B4A-47A9-9EF2-2ABD464C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66CDBD-3A64-4DA0-AAE0-1320ECF2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DF393-B30F-4D5B-8EE9-9FC9EE1B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AFB59-76C0-4486-B75A-87D48993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47171-7188-48B1-8826-9D0D79E0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871AF-3F6E-41B0-947F-B7C18092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4B839B-54E4-4C60-9A0F-9E162C21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535B4-2DB0-4BD7-84D2-5E06C01D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BF4C-3DC8-4F86-A2C7-2BA5C472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230B77-030E-4AA9-B667-C6780EB2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ED38E5-E17A-45F3-BE14-B650DA3F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FDFD7-1855-4252-AEE1-5818AE02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EA37A-976E-4DAE-8C4E-A7CF2952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9AA908-D74D-4817-A0C4-3BEF5385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AC010-6364-4B91-89C9-6FB15214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22C192-8210-4785-A150-646310CD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7C168-04FE-4E1E-9DF1-36FB5386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04AB1-AAE5-4D85-B795-7F903F0A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37C37-7463-42F9-9B22-352A118B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BBA5-F6B1-4085-856D-257BAA52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D961D3-59E2-4061-883C-88ECAFE5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DD09FA-706A-49AF-8530-31FBFD2E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2A76C-B7B3-4190-A4B8-22C00F5C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F9CF09-F56E-488B-BC3D-C0322054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0BA8BB-8314-4057-88B2-FC9D38B6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5AC01C-DCEE-41AC-A803-1D1833C4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085EC-C4FE-401B-859D-E084C8FA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962BF5-5565-43E0-89DE-1C5A2487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677A4A-7A52-4007-B1C4-B3687789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DB0FFF-11A1-486B-BCA3-DED352CB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F713-F79F-4DEA-8D3A-EE99CE77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E32FC1-95AF-4363-9934-8FE0C0AB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5E17B5-C3E1-4B2F-B4AC-4EB30498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665E88-FFD5-446C-8643-C32214A7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20884-1B15-4C29-9564-1E15E134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196707-B993-4184-8BA0-BA052D0E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787E1D-D018-401E-85D1-B82105F8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5E18B6-8E24-403D-9D91-8E033E03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43AC77-893C-4673-8E82-9D02858D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4F204E-5B59-40BB-BE01-5F7292C2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34F9A-757B-4D5E-9184-135A870B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126-1CBB-48C9-BCCD-AA9F4723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89EB-8E52-4AA0-9B30-2AA934AB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BFD0C6-A8E3-4034-943D-F5F1D0BB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30C28A-598A-4430-A116-F4CDEE8E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9D16F2-90C6-4FED-B9BA-F51A42A1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7F0B3-FB2D-4A45-8AA8-26BFF403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96DF03-B0A0-4A52-B186-3A99798C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09D5CA-1B23-4AFB-AFF1-B13D45F5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795D85-F118-469B-B913-94CF34F1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EC844D-568A-4CC2-B066-62E80590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F63773-0EA6-4D76-9ADA-A0795A7B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6A2F76-9B61-45D5-AFE0-2F80A787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2491-6AE1-4080-9A5E-EA724D67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7E9207-88E8-49A6-A26F-0C931049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4BA7A-754C-4755-BF8B-496438AF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B2B1F6-4890-46A4-BFE2-CC831891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5429CB-F0E9-4DF3-81FE-D6E53BA2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6CC710-50DB-4CFE-951C-CA43739F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975DA0-CDF8-4C31-915C-433C660D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E7EE71-5CA0-4D34-A35C-2DDC3380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74E6F6-5BCC-44FD-8D9C-5B665E7A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930664-5B34-4CD8-8308-9351CE94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651FF0-5928-45FB-A03F-D6CECF25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A464-A595-4A63-85ED-085EE805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42265B-2EC6-42CE-8427-EE4B6AC3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E56D4E-E7BC-4F2C-8C82-200F7647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36895C-C49E-49FE-8E5B-E659917D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761751-69BE-4279-B0CB-F9413763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2ECCDA-2E90-42FC-B41A-5DAEE5FF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25ED3D-59CD-49D3-8D4C-1C1D0C68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D7CFC-CBDD-4A5B-BBAD-6AF500A7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72D54-0236-41A7-83D4-8625E9B8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4E9FEC-6D20-40DE-AAFD-BB028F27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26F061-9BE8-4315-BCF7-4B72F64A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78CF-3F33-414C-9CFD-2A0CE948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15451E-25B0-40BF-AC43-8B46B4A4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F68645-9EEB-44C9-91A9-986D1C54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7CF38-F1DF-4FA8-A577-8BC0A6E6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B059D0-15A6-4CA4-8A18-BE7BBFE8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EBEE22-E1E9-48E5-A6A4-E0DCCCCA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A2FF37-8719-4749-B773-17012F81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D27E29-2FD6-4548-92F8-4A843DD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01ED20-31AD-422F-8F32-250DA316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07CC40-9CB3-44E4-8639-0250132C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1076D0-33AD-48F4-8DE5-5A1A5BC6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AA21-EF42-40EF-81BE-9CEB05C1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BE2372-F421-4317-8BAB-F4766264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3490AB-19D2-41E6-9D06-93C519D1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B30C41-F0FB-410E-8C8E-1C0440B3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C9E90C-15ED-4094-B45F-606D717D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240250-5AAD-4377-A189-25ECB56D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C78E74-9A14-4729-9BD5-8BFB88F6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E7BF2B-8821-4B17-BB55-F2E37A60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0BF8F6-E932-4A11-8604-7A61C440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2A0502-EE4E-4C55-B685-DE13D138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16E59D-F248-4F7B-9D25-980FAF81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97ACE-78FF-4C46-9013-6B884311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3CF5A2-443A-4D5E-8A69-A39072B1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C7FC3E-BADA-4281-93B8-05C3CF47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613B19-FE40-438A-83D2-DC28C90B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488B83-6074-4000-AFB0-9986F054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08294E-1431-4B29-9F51-13532611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079A1B-ED5A-4281-A55E-622ABA96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1FDE8E-B03B-433E-869D-D22EBC36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957F07-2E08-47F1-9D89-FFB5B345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0166EC-84A6-48DA-A10C-70C1B6B3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E3DDCC-CF8F-47C8-AC1D-72BBD97D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AB39D-5B5E-4566-B972-C07BCA3D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8A1BF3-976D-4F70-B2D1-EB035D50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CEB9D0-2DEF-455D-B24B-96DE1CC9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7B64F6-0A0C-4790-AA36-D71C1AA1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5D03A8-F8ED-4CFF-9930-A0CF949A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A0D838-BE02-4BE9-9775-A85B1686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E76F5-803C-4A4F-96A0-EB059BED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D1194-CC72-4E39-B4BE-B5E87454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CFBDC-84A9-475A-8F7B-80380D92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7251-9EA6-47B3-B533-C91541E7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48D6-2E78-4C0B-ACA3-D87FB8D5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BC9D3-6257-41F5-BC41-04F6C1D4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4610-E26F-48D6-ACD3-F2F1D6F8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EC55-212E-45E2-90FA-06B1F350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D6891-4AA8-46D4-8703-B2912965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A7B9C-4D22-4F64-A7CF-0EA154B5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9494F-948A-48DD-922F-E1150694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34EC7-FC57-407C-9DB9-54A0CF66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51C27-1D71-4817-B944-30AAD8C5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FAA78-C9D6-438F-8BCC-3DC50C83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53C-C7D1-4E00-82C8-E964E967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304C2-C0FB-459E-AC0C-9CAB10D6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080C9-B2C5-435C-8FE1-62754C5F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EB7D4-6F26-4610-9F9F-841201AF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C77EF-6477-4433-A45C-9BE0775D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58D15-5843-4005-B0FB-C8F52619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C8F6B-E15F-402A-A660-D5343059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8285-4970-4A9E-B9F3-E7585319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616B8-13B1-4DE9-B0DD-96F44C76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1CBD0-E8DB-4205-AC9A-15D77F03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7CCC3-EC26-4DAD-93B2-D2AF35EF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09D-5959-444B-AE77-46FFF2C7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CCE6C-AF52-4B8B-9295-DA1304AB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5610A-93C7-4B76-BF18-AA186B11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0F4E6-0A09-4E35-92DF-3C3BD9CC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B0D6C-5181-41C3-B7E6-5C6B2CC7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AE72D-6545-4303-BEAD-FBAC75D7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C8F0C-D48C-4A13-91EA-629A1974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571CB-79FD-4BED-9B61-5814477A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0BB5D-2B20-4D51-8B26-9C1490AE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4C2A3-7841-4A6D-814F-6078AFFC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D244A-7610-4E94-A268-3904344B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A06-B6F0-4BA5-BD19-6E52E1C8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5BAE9-800B-4BD4-BF00-35A3FDEA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07273-9CE4-4D15-B98E-2CA49C08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6FAB6-EA5D-49D1-AD6E-5975C887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09375-6E17-4B8E-9719-4281BB9F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81273-9109-43A7-B1FE-E93CB7E9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767AF-4CF7-499D-B1BE-68B1DE76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FB22A-AB75-446D-BFA1-EF684015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07072-14E3-491A-8854-AD1B41C2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DF46A-7190-4651-8C12-3E1A99FB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1779D-FDA6-44A6-BF5B-C96A8925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5A8-4AF9-454E-8A8A-AD68916D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F4421-AB52-437E-8FD1-239648C2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6CE52-C49E-412F-B15B-AF12342A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7D17B-60A1-4EC7-B073-3F7223E4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28A5B-5158-4FAA-B001-287E2737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7637B-5D9E-40BB-B278-F7F704F8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3791D-9D9B-4D98-95DE-A122B3F5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E206E-D097-4F9D-8956-B3F9AF34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DAB58-FBB9-4023-834A-6E6E0605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50B08-E7EF-4404-8B96-D2F9ADC0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A2BB4-E997-4FBB-8B30-ED2A350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F66-0874-4DD6-912D-B4E37BBF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16FBB-2708-4EC1-B1DF-4F4D6824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3A399-0143-421A-B454-653A99F0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02C45-9539-496F-9589-29BDDC38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34566-4EA9-4590-AC21-1E5B657B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65660-C498-49D6-849F-25BA5C17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C8E97-A214-4896-97C0-62541D79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D6200-D46A-4A1C-BB3B-02E6CF3E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3E740-5E26-4F79-81C8-D730A972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B7AED-292E-479D-B59D-22C5AE20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640E5-ECE7-4BF5-85C5-62E9645F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74B-5940-4E4D-BF8F-E95E1D98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07F2D-0A34-459D-A213-8BAC2466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F1C7A-2E0A-4496-88A1-53DB795E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6E520-C233-4401-B49C-63D96BEE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54980-D13D-4B6D-B3C6-64A3D8A0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C977F-7A1D-44AC-8106-F3670402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3886D-F845-4063-A712-B9EE2A47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9C6BC-1859-4681-ABCC-B7487CB4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5312C-599F-4A69-8F0E-3C0B90F8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7E57A-C7BE-4742-BE96-8886D16D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73B36-2749-4D97-921F-032795A2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595D-C8CB-47E6-BB53-EB41FB078A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3146-E216-47CC-9727-93F60FEED5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453D-916E-4601-833B-43660E04C0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E655-7295-4B53-A6B5-6A4ED0F9E1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8A2A-703A-494B-AFAD-68C44B0351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EF2D-C7BB-47B6-ABE2-F173EF4F79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F988-C34B-4064-A5BE-59B68C0371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82D9-2C8B-415E-A3F7-8FB0E9CA05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5089-FB43-4F92-962B-3888F67EB4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A94C-3340-45FB-A91E-36270635F1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BE6A-6B59-4880-A015-6770BB64A7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9783-6306-40E8-8D3A-5DE9554E72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290A-B4D3-4A91-9E30-B99A1F89B9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7224-1F41-4720-8D76-7948926FE4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2BC5-6D57-4BEB-9D7B-9FC3632EFA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8DA9-5286-4A09-85CB-47A5AC523E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ED24-2541-4D37-9D96-A5D67CA25C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2420-3276-4831-AF15-E8C82425E3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8826-F839-4400-A293-59070F3BF9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D325-ED3D-4438-B439-E72361DA7C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7A43-E81D-44B1-BF44-544F1C0D90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BC39-26C0-44A0-8D51-DD1A21EFBA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0537-DE3A-401F-9CDD-9979A61F32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7D54-DFA6-4F2C-9477-0C6A44AF3F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D050-722D-4AFF-B3F3-A6C2DD2609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233E-12EE-4121-B647-6C77F22050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8EB7-6194-446A-9C69-CE382A6BD8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ACB9-C491-4842-872F-D54F654A66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7932-3A70-47E3-91E9-AEB9C3BDCC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4DEC-6030-4FC3-A9AD-41EC8F65A8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480A-2C7F-45AA-A948-408AF6FC9E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71C3-5F16-46B5-B44B-7D551C944D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CFA4-FE11-4888-8CB7-E920ECD6EB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EC05-6B10-4C81-841C-42026C4950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3B33-08D3-4890-817E-29F137087A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A4B2-8096-4DBB-A382-BB5E7191D6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EADD-3075-4216-A2BD-85464B2FE2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5901-F461-42FD-A123-D60D67B4B5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37CE-6150-4A50-A55A-67DC84044A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B94B-C40A-4F18-BEF5-65186D44D5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05EC-7E2A-4E36-9A51-C27E54E030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543040" y="3114720"/>
            <a:ext cx="40579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组合 6150"/>
          <p:cNvGrpSpPr/>
          <p:nvPr/>
        </p:nvGrpSpPr>
        <p:grpSpPr>
          <a:xfrm>
            <a:off x="114480" y="1467000"/>
            <a:ext cx="8915400" cy="3981240"/>
            <a:chOff x="114480" y="1467000"/>
            <a:chExt cx="8915400" cy="3981240"/>
          </a:xfrm>
        </p:grpSpPr>
        <p:pic>
          <p:nvPicPr>
            <p:cNvPr id="964" name="图片 6145" descr=""/>
            <p:cNvPicPr/>
            <p:nvPr/>
          </p:nvPicPr>
          <p:blipFill>
            <a:blip r:embed="rId1"/>
            <a:stretch/>
          </p:blipFill>
          <p:spPr>
            <a:xfrm>
              <a:off x="114480" y="1467000"/>
              <a:ext cx="8915400" cy="39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图片 6146" descr=""/>
            <p:cNvPicPr/>
            <p:nvPr/>
          </p:nvPicPr>
          <p:blipFill>
            <a:blip r:embed="rId2"/>
            <a:stretch/>
          </p:blipFill>
          <p:spPr>
            <a:xfrm>
              <a:off x="649440" y="2638440"/>
              <a:ext cx="8343720" cy="280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6" name="椭圆 6148"/>
          <p:cNvSpPr/>
          <p:nvPr/>
        </p:nvSpPr>
        <p:spPr>
          <a:xfrm>
            <a:off x="4010040" y="3094200"/>
            <a:ext cx="503280" cy="4791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椭圆 6149"/>
          <p:cNvSpPr/>
          <p:nvPr/>
        </p:nvSpPr>
        <p:spPr>
          <a:xfrm>
            <a:off x="6373800" y="3097080"/>
            <a:ext cx="503280" cy="503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椭圆 6151"/>
          <p:cNvSpPr/>
          <p:nvPr/>
        </p:nvSpPr>
        <p:spPr>
          <a:xfrm>
            <a:off x="4643280" y="4365720"/>
            <a:ext cx="503280" cy="4791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7170" descr=""/>
          <p:cNvPicPr/>
          <p:nvPr/>
        </p:nvPicPr>
        <p:blipFill>
          <a:blip r:embed="rId1"/>
          <a:stretch/>
        </p:blipFill>
        <p:spPr>
          <a:xfrm>
            <a:off x="1566720" y="1724040"/>
            <a:ext cx="6010560" cy="3409920"/>
          </a:xfrm>
          <a:prstGeom prst="rect">
            <a:avLst/>
          </a:prstGeom>
          <a:ln w="0">
            <a:noFill/>
          </a:ln>
        </p:spPr>
      </p:pic>
      <p:sp>
        <p:nvSpPr>
          <p:cNvPr id="970" name="椭圆 7171"/>
          <p:cNvSpPr/>
          <p:nvPr/>
        </p:nvSpPr>
        <p:spPr>
          <a:xfrm>
            <a:off x="3995640" y="3357720"/>
            <a:ext cx="503280" cy="50292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椭圆 7172"/>
          <p:cNvSpPr/>
          <p:nvPr/>
        </p:nvSpPr>
        <p:spPr>
          <a:xfrm>
            <a:off x="5292720" y="3933720"/>
            <a:ext cx="503280" cy="503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椭圆 7173"/>
          <p:cNvSpPr/>
          <p:nvPr/>
        </p:nvSpPr>
        <p:spPr>
          <a:xfrm>
            <a:off x="4730760" y="4581360"/>
            <a:ext cx="503280" cy="503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图片 8193" descr=""/>
          <p:cNvPicPr/>
          <p:nvPr/>
        </p:nvPicPr>
        <p:blipFill>
          <a:blip r:embed="rId1"/>
          <a:stretch/>
        </p:blipFill>
        <p:spPr>
          <a:xfrm>
            <a:off x="95400" y="885960"/>
            <a:ext cx="8953200" cy="50860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2"/>
          <a:stretch/>
        </p:blipFill>
        <p:spPr>
          <a:xfrm>
            <a:off x="2771640" y="13557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3"/>
          <a:stretch/>
        </p:blipFill>
        <p:spPr>
          <a:xfrm>
            <a:off x="5695920" y="1341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4"/>
          <a:stretch/>
        </p:blipFill>
        <p:spPr>
          <a:xfrm>
            <a:off x="2771640" y="17146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5"/>
          <a:stretch/>
        </p:blipFill>
        <p:spPr>
          <a:xfrm>
            <a:off x="5205240" y="17146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6"/>
          <a:stretch/>
        </p:blipFill>
        <p:spPr>
          <a:xfrm>
            <a:off x="2771640" y="20750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7"/>
          <a:stretch/>
        </p:blipFill>
        <p:spPr>
          <a:xfrm>
            <a:off x="5205240" y="20750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8"/>
          <a:stretch/>
        </p:blipFill>
        <p:spPr>
          <a:xfrm>
            <a:off x="900000" y="37306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9"/>
          <a:stretch/>
        </p:blipFill>
        <p:spPr>
          <a:xfrm>
            <a:off x="2700360" y="45226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0"/>
          <a:stretch/>
        </p:blipFill>
        <p:spPr>
          <a:xfrm>
            <a:off x="2771640" y="37609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1"/>
          <a:stretch/>
        </p:blipFill>
        <p:spPr>
          <a:xfrm>
            <a:off x="1835280" y="5300640"/>
            <a:ext cx="358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2:50:3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